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88396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9840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483920" y="1252440"/>
            <a:ext cx="825876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526-     1100  DPA6          CPA01CA6103351                   L       000000    57,067.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51                   L       000000       257.6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51                   L       000000     4,056.8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51                   L       000000     2,221.6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526-                                                                            63,603.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526-                                                                            63,603.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5519880"/>
            <a:ext cx="8182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24,228-                                                                           290,736.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520" y="6434280"/>
            <a:ext cx="8888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211                                                                                                               34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0836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8396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9840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252440"/>
            <a:ext cx="81824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905   *    294      1100  DPA6          CPA01CA6103365                           300017     2,11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905   *             1200  DPA6          CPA01CA6103365                           300017         8.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905   *             1200  DPA6          CPA01CA6103365                           300017        58.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905   *             1200  DPA6          CPA01CA6103365                           300017        96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294                                                                              2,280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294                                                                              2,280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960" y="5519880"/>
            <a:ext cx="8182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3,460                                                                             161,52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0836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520" y="6464160"/>
            <a:ext cx="8888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211                                                                                                               36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8396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9840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252440"/>
            <a:ext cx="81824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232      1100  DPA6          CPA01CA6103365                   L       000000    25,36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65                   L       000000       11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65                   L       000000      18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65                   L       000000       98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232                                                                             28,25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232                                                                             28,25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080" y="5519880"/>
            <a:ext cx="8030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0,768                                                                           129,21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0836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520" y="6464160"/>
            <a:ext cx="8888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211                                                                                                               38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37520" y="6477120"/>
            <a:ext cx="8888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211                                                                                                               13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1:47:46Z</dcterms:created>
  <dc:creator>Jim Nobbs</dc:creator>
  <dc:description/>
  <dc:language>en-US</dc:language>
  <cp:lastModifiedBy>Administrator</cp:lastModifiedBy>
  <cp:lastPrinted>2000-01-12T21:57:14Z</cp:lastPrinted>
  <dcterms:modified xsi:type="dcterms:W3CDTF">2004-10-29T17:48:32Z</dcterms:modified>
  <cp:revision>1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4207175</vt:r8>
  </property>
  <property fmtid="{D5CDD505-2E9C-101B-9397-08002B2CF9AE}" pid="3" name="_AuthorEmail">
    <vt:lpwstr>sandra.charity@us.army.mil</vt:lpwstr>
  </property>
  <property fmtid="{D5CDD505-2E9C-101B-9397-08002B2CF9AE}" pid="4" name="_AuthorEmailDisplayName">
    <vt:lpwstr>Charity, Sandra M SFC</vt:lpwstr>
  </property>
  <property fmtid="{D5CDD505-2E9C-101B-9397-08002B2CF9AE}" pid="5" name="_EmailSubject">
    <vt:lpwstr>PS 211</vt:lpwstr>
  </property>
  <property fmtid="{D5CDD505-2E9C-101B-9397-08002B2CF9AE}" pid="6" name="_ReviewingToolsShownOnce">
    <vt:lpwstr/>
  </property>
</Properties>
</file>